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8F-482B-44B5-8652-3E34339A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A32-741E-4828-8023-7D75F97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9D-CE59-4CE4-B7B7-6370B1EE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25A-3709-49CB-9962-BF1C638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0EE-9DF5-4E48-B95E-4FC765F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85A-E6DF-4C83-8825-494C8D8E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375-804D-4BAD-962A-88CF60D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E0F-D7CA-46A6-837C-F19D483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F3B-8D4B-4268-BE67-20251439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6EF-6216-4ADA-936A-4CFB3BFD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A7F-D019-42B5-BC2A-2D651DA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F0E-6910-4508-B357-D2758AF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E58-6721-4E47-8C1C-2B17C4A75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20640"/>
            <a:ext cx="1873080" cy="1008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115640" y="1628640"/>
            <a:ext cx="142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268360" y="691920"/>
            <a:ext cx="158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260280"/>
            <a:ext cx="2089080" cy="86508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836640"/>
            <a:ext cx="719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084720" y="549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0"/>
            <a:ext cx="1295640" cy="76500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1413000"/>
            <a:ext cx="1295280" cy="172872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1484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628640"/>
            <a:ext cx="2879640" cy="165600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2997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429000"/>
            <a:ext cx="1079640" cy="151128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00360" y="486900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451280" y="501336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5661000"/>
            <a:ext cx="1512720" cy="50328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661000"/>
            <a:ext cx="1295640" cy="72072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276640"/>
            <a:ext cx="2305080" cy="1873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le pers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aese se 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653000"/>
            <a:ext cx="2233440" cy="194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9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581360"/>
            <a:ext cx="1728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43280" y="515772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950080"/>
            <a:ext cx="792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5516640"/>
            <a:ext cx="865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08464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6093000"/>
            <a:ext cx="1081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11Z</dcterms:created>
  <dc:creator>studente</dc:creator>
  <dc:description/>
  <dc:language>en-US</dc:language>
  <cp:lastModifiedBy>studente</cp:lastModifiedBy>
  <dcterms:modified xsi:type="dcterms:W3CDTF">2016-12-05T09:01:48Z</dcterms:modified>
  <cp:revision>3</cp:revision>
  <dc:subject/>
  <dc:title>Diapositiva 1</dc:title>
</cp:coreProperties>
</file>